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0FD5-4C61-4D62-8C2F-8061A015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DB0C-884F-427D-9A2D-64054DFE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91F5-A68B-4CA5-9746-6B148D1D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8474-A86D-42A0-A716-E9F6096A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EF7B-E6CC-40EA-8AAF-9C40A342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B498-DE14-487D-A24D-1286F766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387B-2A6E-4F86-855C-E4B48A8B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9879-FFF5-4011-8255-DA4000B8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B085-D46B-4F5F-BF88-3B45A3C3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F9F3-285C-4A7F-B32B-FDE277A6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037E-27D6-463A-A410-900FCB53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4A1-C9AA-4A55-85BC-BB1302B6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63C0-25F9-4913-A0AD-CE0A593F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FC99-4D57-40E7-BA34-4DF98597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6D63-B0D9-4BCB-A2FA-CB6CF270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B0F5-0343-46B6-8FBB-8EC95F31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FBC2-2263-4E38-AB2B-C5D0B8BC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727-FA99-43F4-9455-E3B438A5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183-0BF9-4E06-876E-F576226C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89F-5C69-4BB9-A461-EF1E9D00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00F-A52A-4639-A985-EDE43E81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AFF-68B2-44E9-BAB2-7C7E1FF6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DEF-B3F5-4EFF-A8B9-39A6BDFA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24D-252E-475E-999A-DCF4A16F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62FD-9ED4-4C7E-8FE3-23D9D5660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52D4-D6F5-4967-9A93-E50DD73161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pagliaro@seymourschools.org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welve_Table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Rome Review</a:t>
            </a:r>
            <a:br>
              <a:rPr sz="5400"/>
            </a:br>
            <a:r>
              <a:rPr b="1" lang="en-US" sz="3600" spc="-1" strike="noStrike">
                <a:solidFill>
                  <a:srgbClr val="ffffff"/>
                </a:solidFill>
                <a:latin typeface="Albertus Extra Bold"/>
              </a:rPr>
              <a:t>Part 2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r. Paglia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ymour High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ff66"/>
                </a:solidFill>
                <a:uFillTx/>
                <a:latin typeface="Tahoma"/>
                <a:hlinkClick r:id="rId1"/>
              </a:rPr>
              <a:t>cpagliaro@seymourschools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Copyright 200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oman Expan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Punic W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wars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against Carth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Sic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Hannibal &amp; Elephants vs. Scip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nibal won @ Cann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pio won battle of Z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arthage destroyed at 146 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o urged “Carthage must be destroye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cato"/>
          <p:cNvPicPr/>
          <p:nvPr/>
        </p:nvPicPr>
        <p:blipFill>
          <a:blip r:embed="rId1"/>
          <a:stretch/>
        </p:blipFill>
        <p:spPr>
          <a:xfrm>
            <a:off x="0" y="4943520"/>
            <a:ext cx="1333440" cy="1914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00054371_000"/>
          <p:cNvPicPr/>
          <p:nvPr/>
        </p:nvPicPr>
        <p:blipFill>
          <a:blip r:embed="rId2"/>
          <a:stretch/>
        </p:blipFill>
        <p:spPr>
          <a:xfrm>
            <a:off x="6095880" y="1066680"/>
            <a:ext cx="30481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esson Summa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Roman society divided into 2 classes: Patricians &amp; Plebe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 divided into 3 bra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ansion brought wealth and prosperity to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y it matters now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basic values and institutions of the US, such as civic duty and a separate judicial branch, began in the Roman Re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Roman Republi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Ide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: Early Roman society was divided into 2 unequal cla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: The Roman Republic had a government divided into 3 parts (like the U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sion: Rome increased in size, conquering neighboring people, to grain wealth, power, and 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arly Roman Socie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ed as farming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owners served in a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farmers grew rich, built e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p between rich and p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 life: led to effort, discipline, and loya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Roman qua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arly Roman Socie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unequal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Patrici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upper class, more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Plebei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ommon farmers, merchants, few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v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n’t serve in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sion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ricians forced to explain rights of Plebe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Twelve Tabl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. 450 B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ublican Govern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Legisla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Sen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 patrician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erved for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ised lea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Assemb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cted rights of plebe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ublican Govern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Rectangle 3" descr=""/>
          <p:cNvPicPr/>
          <p:nvPr/>
        </p:nvPicPr>
        <p:blipFill>
          <a:blip r:embed="rId1"/>
          <a:stretch/>
        </p:blipFill>
        <p:spPr>
          <a:xfrm>
            <a:off x="835200" y="1719360"/>
            <a:ext cx="81435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roman_republic"/>
          <p:cNvPicPr/>
          <p:nvPr/>
        </p:nvPicPr>
        <p:blipFill>
          <a:blip r:embed="rId1"/>
          <a:stretch/>
        </p:blipFill>
        <p:spPr>
          <a:xfrm>
            <a:off x="380880" y="396720"/>
            <a:ext cx="84582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ublican Govern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US adopted similar sys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izenship important to government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izens’ du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V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Pay ta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erve on ju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erve in milit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fore the Punic Wa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5" descr="mediter218bcs"/>
          <p:cNvPicPr/>
          <p:nvPr/>
        </p:nvPicPr>
        <p:blipFill>
          <a:blip r:embed="rId1"/>
          <a:stretch/>
        </p:blipFill>
        <p:spPr>
          <a:xfrm>
            <a:off x="914400" y="1371600"/>
            <a:ext cx="74106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7:45:29Z</dcterms:created>
  <dc:creator>cpagliaro</dc:creator>
  <dc:description/>
  <dc:language>en-US</dc:language>
  <cp:lastModifiedBy>cpagliaro</cp:lastModifiedBy>
  <dcterms:modified xsi:type="dcterms:W3CDTF">2010-12-20T13:40:12Z</dcterms:modified>
  <cp:revision>31</cp:revision>
  <dc:subject/>
  <dc:title>Rome Review Part 2</dc:title>
</cp:coreProperties>
</file>